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00074"/>
        <c:axId val="91298955"/>
      </c:barChart>
      <c:catAx>
        <c:axId val="50700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98955"/>
        <c:crosses val="autoZero"/>
        <c:auto val="1"/>
        <c:lblAlgn val="ctr"/>
        <c:lblOffset val="100"/>
        <c:noMultiLvlLbl val="0"/>
      </c:catAx>
      <c:valAx>
        <c:axId val="91298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00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AE2-E92B-4374-9268-12962250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F5E-EB81-45FD-B7DF-22D457AA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32F-549C-4DFE-A96D-C24879A3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AD9-CB7F-41CD-9D1C-2896EE8F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A6D-3D65-4ED3-9B24-E2E8EC66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2EF-2A13-4CA8-8582-44E4EA4D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53B-6730-495C-A5E4-BC4F75C6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432-C1D6-4EBD-B70B-31BD6A35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AA4-A73F-45B0-A3A0-CF5BAFFD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822-5F97-4EC3-B452-277204D1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642-EFB2-4BEF-ADCE-EC8249D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168-EA49-4A2A-8E37-9DCE2A0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9BC8C-CCEF-4CD4-B889-1027B81668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