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6544625"/>
        <c:axId val="34076114"/>
      </c:barChart>
      <c:catAx>
        <c:axId val="2654462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076114"/>
        <c:crosses val="autoZero"/>
        <c:auto val="1"/>
        <c:lblAlgn val="ctr"/>
        <c:lblOffset val="100"/>
        <c:noMultiLvlLbl val="0"/>
      </c:catAx>
      <c:valAx>
        <c:axId val="3407611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54462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072E7-45F4-4F8B-8707-898F5FD62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A0B62-C22F-456B-8851-50D23E001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6AF6D-BF2A-44EB-AE8C-97BDEC0A8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5C0A2-21A2-41F0-8EEC-D140958B6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01979-31A0-4BB0-8C40-ADFA7C12C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6CF9D-5546-4809-9F51-16724E686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F2A0B-2E60-402E-967F-82DC95B18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1EFA8-D936-42AB-AE98-9C7D6B4F2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C35C2-C2E6-44EA-B17D-8DB0B999D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75D36-3B63-4A3F-9163-56538B490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596C3-2F83-48D6-A625-C2A57B947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03E1A-5007-4B37-ABBD-2484644F7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220FD7-2CCD-4E81-807C-2B7E55F538B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