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4024"/>
        <c:axId val="71649362"/>
      </c:barChart>
      <c:catAx>
        <c:axId val="133940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49362"/>
        <c:crosses val="autoZero"/>
        <c:auto val="1"/>
        <c:lblAlgn val="ctr"/>
        <c:lblOffset val="100"/>
        <c:noMultiLvlLbl val="0"/>
      </c:catAx>
      <c:valAx>
        <c:axId val="716493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40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6CE9-070A-4977-867B-C2D3C57C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3D89-6071-4506-9CCF-1E6100B6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6EC-9CCB-473E-AA9D-E22CA585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68B-282D-48AC-B74C-A21AABBF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94EA-7A5F-4C54-BF4D-4BB21671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412-51D3-4E6C-A068-40D090EC7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6FF6-26F3-42A4-92B5-312EF065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90D-7D44-4B72-A53D-ADF83A7B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BC47-8740-4070-B4E8-9A2BD13E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F82-4035-4B82-B02E-9C7EDA93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00B-4A67-4896-9D9F-9624C7B5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B36A-6EE8-4442-9806-3CEDF739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970F2-7403-40DE-8DC2-ED68F6A0F1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